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DC5-5C80-4DE6-832E-E251D245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D9C-010A-4CBD-B874-C6E523AC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DA9-153A-4A7F-B310-7CB2DE82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AC9-D778-496C-A09A-166F5776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233-57E7-48B8-AFC8-6127D03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172-97F3-4512-9A25-B44768E6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590-2366-497B-A098-3AC94972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CFE-7E5C-4936-980C-DB672E9F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318-0C3D-4614-9E47-0B1468DE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EC9-607E-45DD-8D64-EDB95EB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0A9-8711-43A9-91F8-B72EBB13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2DD-20BA-4FCC-A97D-583D3AE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DF1D-3A2C-4F7C-9E52-F58DE716F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epperson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davincicook.com/wp-content/uploads/2009/10/EppersonFrank-168x300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8600"/>
            <a:ext cx="86104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80c0c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PSICLE™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80c0c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449568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h 8</a:t>
            </a:r>
            <a:r>
              <a:rPr b="1" i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uter #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mmer Day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March 11, 2010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6477120" y="1600200"/>
            <a:ext cx="216216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634032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melson MIT Program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opsicle™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ch 9, 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epperson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Epperson"/>
          <p:cNvPicPr/>
          <p:nvPr/>
        </p:nvPicPr>
        <p:blipFill>
          <a:blip r:embed="rId3"/>
          <a:stretch/>
        </p:blipFill>
        <p:spPr>
          <a:xfrm>
            <a:off x="2590920" y="0"/>
            <a:ext cx="5257800" cy="164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" y="1219320"/>
            <a:ext cx="230040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518148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g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ank Epperson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rch 9 ,20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avincicook.com/wp-content/uploads/2009/10/EppersonFrank-168x300.jp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hundreds of millions of popsicles are eaten in the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year there are more than thirty flavors available including grape, lime, banana, cherry, and raspbe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 popsicles were invented during the Great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sicle sticks were first made from Birch-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opsicles...Fudgsicle, Creamsicle and Dream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95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5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95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1894 and raised in San Francis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, Epperson was 11 years old, left a fruit drink out overnight (with a stirrer in it), and it froze, making a new treat, then created “Epsic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ld his rights to the Popsicle to the Joe Lowe company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children renamed it the Po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person also invented the twin popsicle (with two sticks so it could be shared by two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04:37Z</dcterms:created>
  <dc:creator>install</dc:creator>
  <dc:description/>
  <dc:language>en-US</dc:language>
  <cp:lastModifiedBy>install</cp:lastModifiedBy>
  <dcterms:modified xsi:type="dcterms:W3CDTF">2010-03-18T13:41:06Z</dcterms:modified>
  <cp:revision>12</cp:revision>
  <dc:subject/>
  <dc:title>Slide 1</dc:title>
</cp:coreProperties>
</file>